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25439"/>
        <c:axId val="82169934"/>
      </c:barChart>
      <c:catAx>
        <c:axId val="65525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69934"/>
        <c:crosses val="autoZero"/>
        <c:auto val="1"/>
        <c:lblAlgn val="ctr"/>
        <c:lblOffset val="100"/>
        <c:noMultiLvlLbl val="0"/>
      </c:catAx>
      <c:valAx>
        <c:axId val="82169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25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F01-FE9B-4C64-995B-74348B3F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1AC-C861-468E-A62F-B37E1C53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659-D10E-42A7-8828-C73676C0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B34-F71C-43AE-AB7C-9B20954F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F8E-D0E4-415F-A2BA-5EA72990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19A-2FEF-497B-80B9-501FA60A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CE6-9B36-4820-BE1B-4EFCE989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381-2718-4B60-8BCB-0E9164EA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0AA-60AC-4106-9846-05A1D70F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D3F-07BF-4D19-B6EA-830B04C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335-C856-4868-A31B-CB4F56BE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CC3-75F3-4058-97E8-E1440DBB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0B2BC-72DF-4581-893E-825BF87568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