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66031"/>
        <c:axId val="18231542"/>
      </c:barChart>
      <c:catAx>
        <c:axId val="72066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31542"/>
        <c:crosses val="autoZero"/>
        <c:auto val="1"/>
        <c:lblAlgn val="ctr"/>
        <c:lblOffset val="100"/>
        <c:noMultiLvlLbl val="0"/>
      </c:catAx>
      <c:valAx>
        <c:axId val="18231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66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D95-2DC9-4F61-AE62-F5B937A0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EBD8-CB9B-45A6-B38D-F8676DC4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787-300C-4A84-AF94-A7B92FF9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D63-68F6-409F-9C9F-4A8D3528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D2DF-A247-487B-ACE9-D479C6A9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37A-0293-4C4C-A90B-D647D618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14EF-46EE-43BE-9DBB-4DF7CCFA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37CD-D45E-4B11-B9B2-937DBECE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0E7-B7EE-4A16-A65A-3FD87497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E82-841D-445F-8947-7A17AD4A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43A-62A4-40AE-992E-7457D8F5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05F-D405-40B1-BC0F-A4AC76F4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3A4B8-0C09-44D9-9FBE-A0994029E1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