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22595"/>
        <c:axId val="91554277"/>
      </c:barChart>
      <c:catAx>
        <c:axId val="66222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54277"/>
        <c:crosses val="autoZero"/>
        <c:auto val="1"/>
        <c:lblAlgn val="ctr"/>
        <c:lblOffset val="100"/>
        <c:noMultiLvlLbl val="0"/>
      </c:catAx>
      <c:valAx>
        <c:axId val="91554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22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13E-6731-414D-8383-BB7D965D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0BB-3561-41FA-90CB-06FAC69B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BE4-E39E-4746-AB73-38C0EA8A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AC6-D1B1-4FCA-A53A-8A05996D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AE1-9279-4C4C-AE8A-FB6747C2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63D-B7D9-4680-B8BA-F6BA674E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4E5-6B7B-4D2B-B591-5D2C7B37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D45-9A69-47E5-BBF8-FD065A9F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6E2-D90E-4778-8056-7AF76389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F0C-8627-49B2-8DCF-CAE92D9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10A-694C-41D9-900C-0E2393F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FC3-25D6-432A-82EE-CBBCFE4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B7266-7BE3-4C4E-9887-7EA5BF3BE4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