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79209"/>
        <c:axId val="44183619"/>
      </c:barChart>
      <c:catAx>
        <c:axId val="40179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83619"/>
        <c:crosses val="autoZero"/>
        <c:auto val="1"/>
        <c:lblAlgn val="ctr"/>
        <c:lblOffset val="100"/>
        <c:noMultiLvlLbl val="0"/>
      </c:catAx>
      <c:valAx>
        <c:axId val="44183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9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273-D82D-4FF2-8047-252FA10D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CFF-AD29-47AD-BB41-483345EE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756-3D83-480B-92FB-D6C09981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510-61DA-4BC9-8495-BBA5DA48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97B-60D4-413E-B121-D7DEC72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036-5C16-4794-983B-722BE11F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CE9-EDA9-46BA-83FA-15DAEFCF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BF1-5103-4A08-BE9D-639BF080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F02-E857-4EB1-A124-25BE579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1DF-2505-4652-B84B-7CAB9F5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6BF-78E6-4AB0-B92A-31AC9F8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895-95D7-4A94-B228-5C83846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E17E8-4DC8-4441-9060-F8042FE83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