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73382"/>
        <c:axId val="41996504"/>
      </c:barChart>
      <c:catAx>
        <c:axId val="84973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96504"/>
        <c:crosses val="autoZero"/>
        <c:auto val="1"/>
        <c:lblAlgn val="ctr"/>
        <c:lblOffset val="100"/>
        <c:noMultiLvlLbl val="0"/>
      </c:catAx>
      <c:valAx>
        <c:axId val="41996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73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8DC-860A-4C3A-B79F-F4F28AA8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2F0-AECB-4DD5-B7D6-33692DA7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7C6-DEFC-44B9-A6A0-D61D3AE1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EC8-8BA2-4F7B-A9ED-2894FF31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5AE-4378-4E49-8883-EC23F3C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771-23EA-4463-A8D6-2704DBD8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74C-43A7-461F-89CF-A5131321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C12-2B4D-447C-B762-5229546E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59B-0257-460E-9439-FE986546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A6E-1A80-4B48-8106-28B24FD9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ACE-389A-497E-9643-41A00C5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4ED-02C6-4555-911E-BCF04030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A2FD9-0109-4420-B1B7-447417A290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