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3414"/>
        <c:axId val="21121344"/>
      </c:barChart>
      <c:catAx>
        <c:axId val="2533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21344"/>
        <c:crosses val="autoZero"/>
        <c:auto val="1"/>
        <c:lblAlgn val="ctr"/>
        <c:lblOffset val="100"/>
        <c:noMultiLvlLbl val="0"/>
      </c:catAx>
      <c:valAx>
        <c:axId val="21121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3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640-D23A-4672-A3C9-97EC99CC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28F-6CFA-4479-9D2B-F85B85C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B01-4AB2-435D-9CB0-E92544EC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5C3-07E5-4175-9D16-49D26CA2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845-7D90-4373-82A2-8A520E7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B65-2065-4CED-A558-F89F494A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1E3-A1D6-49E3-B096-AD4742BA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841-44F1-474C-A14F-7D1A21D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E21-9C3E-4FF9-AE46-1ED052D0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1EC-A949-4CD4-BD0F-D6F218A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F34-7FEF-4E28-B027-83A9116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612-FC73-4AD0-AF41-2874F3D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D9BE8-AD13-420F-BFA9-40AFFF515C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