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92304"/>
        <c:axId val="27708067"/>
      </c:barChart>
      <c:catAx>
        <c:axId val="16792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08067"/>
        <c:crosses val="autoZero"/>
        <c:auto val="1"/>
        <c:lblAlgn val="ctr"/>
        <c:lblOffset val="100"/>
        <c:noMultiLvlLbl val="0"/>
      </c:catAx>
      <c:valAx>
        <c:axId val="27708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92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B40-F449-4D2C-9325-8C49FA3B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DDA-4E53-4A00-8B98-DF5CA17A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311-B4AD-4138-8CB0-FB1F48FD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2B0-BF80-42F6-8D89-CCB7C4F7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CF4-91E6-45EE-90E1-9CDB9AE7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8D3-4224-4C0D-80FD-8138881F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251-7994-402A-B90D-83EB8749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42B-2F17-44D2-99C4-FA62AB4D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B1A-E0BA-4C15-9F3B-3AFE67C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483-E6AF-4F78-8BC6-73BD879C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178-CAE5-4D83-8A3D-73D3CAEE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FC5-9086-43C6-9053-5078FA88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4A42-6E08-4AB3-963E-3F5267DEB9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