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58741"/>
        <c:axId val="70163005"/>
      </c:barChart>
      <c:catAx>
        <c:axId val="20258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3005"/>
        <c:crosses val="autoZero"/>
        <c:auto val="1"/>
        <c:lblAlgn val="ctr"/>
        <c:lblOffset val="100"/>
        <c:noMultiLvlLbl val="0"/>
      </c:catAx>
      <c:valAx>
        <c:axId val="70163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58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463-0888-4A78-92AD-FE350921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EA5-498F-43C2-A527-86307759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53F-8E75-4ADE-A5E5-D0333ABB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BEC-2052-478D-8BA4-C3ECD846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B8C-AD51-452C-A924-855B3E69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694-64F9-400B-A72B-CD5A0F2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CB3-E3CA-43EE-A0A4-6898487E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E6B-9F31-4E97-AA1C-E7BE0442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CE0-A497-4AB2-BC24-33CE5015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3C4-276D-461C-A539-2BB48F5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0B2-1C19-44FF-B5CC-E342DB5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9FE-FC76-41FE-9E60-BCF99215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613A9-50F1-4E2A-A773-4FC5184BC2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