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48442"/>
        <c:axId val="75738839"/>
      </c:barChart>
      <c:catAx>
        <c:axId val="45948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38839"/>
        <c:crosses val="autoZero"/>
        <c:auto val="1"/>
        <c:lblAlgn val="ctr"/>
        <c:lblOffset val="100"/>
        <c:noMultiLvlLbl val="0"/>
      </c:catAx>
      <c:valAx>
        <c:axId val="75738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48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C95-4251-4D04-B151-F09F6F3F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065-B322-40CB-9D9D-1CE3AB9E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902-0965-4B9B-AB3E-08EE17B7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FA4-EAF0-4A95-AAFF-DE9B821C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DC4-DB9B-41B8-BF12-698B0584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6A1-8DF0-4E19-B9F0-2CEBFBA9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CC0-218B-4842-8AA6-619622D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B5D-E921-4413-B845-0A11F4AF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D8F-4525-4F00-8D45-9DFD8E5D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305-195C-41E4-AB32-9086DE9E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0BF-5477-4B5C-81AA-318E668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CA8-E8CA-490F-8A00-3AE777F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D34CA-DEE9-4E5B-98FF-C41EB6ACAD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