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02730"/>
        <c:axId val="48566512"/>
      </c:barChart>
      <c:catAx>
        <c:axId val="24702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6512"/>
        <c:crosses val="autoZero"/>
        <c:auto val="1"/>
        <c:lblAlgn val="ctr"/>
        <c:lblOffset val="100"/>
        <c:noMultiLvlLbl val="0"/>
      </c:catAx>
      <c:valAx>
        <c:axId val="48566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2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578-B82C-4826-8A73-F88FE448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3B6-A29E-46F3-9BE8-4FC482B3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62E-B883-439A-A323-BA210925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98C-E8F8-409B-B34B-55FF0277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B2F-134A-4925-96BD-9AD0EF1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DEE-FB19-4662-8DD0-BB45F4F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E9B-5BAD-4CC6-86E9-97AEB75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7FE-22B6-4DEC-BF36-83C9D4E0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A1D-FFA5-40CB-BA2C-A309138B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FEA-D9D1-43E4-94BB-B60D582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EEB-3C4D-409E-8B92-CE9B1E8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BF1-D63F-40F0-8490-7DB80DB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ECDE-7A82-4857-9D52-35627E7E4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