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29947"/>
        <c:axId val="14413250"/>
      </c:barChart>
      <c:catAx>
        <c:axId val="48529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13250"/>
        <c:crosses val="autoZero"/>
        <c:auto val="1"/>
        <c:lblAlgn val="ctr"/>
        <c:lblOffset val="100"/>
        <c:noMultiLvlLbl val="0"/>
      </c:catAx>
      <c:valAx>
        <c:axId val="14413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9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DC5-ACDA-4EA5-9521-290A132A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069-7B4B-46EC-A6FA-2DBAB2E4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F89-1D15-4E06-8136-5BA9264F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BE5-F29E-43B3-9551-5320D52A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E96-BBF1-4D7F-85EC-D47A6F6C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D17-8083-402F-AADF-7803B53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F79-476A-4661-BD27-8705EA43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79B-A89B-483C-9FCA-D16D4BC5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10D-5B32-4642-87C2-161BF27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010-6D20-4964-943F-36D2AFEE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B3E-99A5-49F8-B4AB-17D280E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C5D-247A-4D48-AF7D-C2127FF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6D629-EDF0-404C-B59C-AC14FD56D9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