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324295"/>
        <c:axId val="75131762"/>
      </c:barChart>
      <c:catAx>
        <c:axId val="643242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31762"/>
        <c:crosses val="autoZero"/>
        <c:auto val="1"/>
        <c:lblAlgn val="ctr"/>
        <c:lblOffset val="100"/>
        <c:noMultiLvlLbl val="0"/>
      </c:catAx>
      <c:valAx>
        <c:axId val="751317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242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E5D2-FB03-49E6-AD4B-32799447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AB58-B644-4226-83A3-47E547E1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D818-F95F-42A4-BE68-0939A044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BAC-4CEA-499C-ADD6-DA790962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2CF-6C45-44D0-9E24-522698F8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BD5-E13C-43E7-AB62-3999CB4A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24C3-4BCD-4B8E-BE67-147336A2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37B-26C5-4122-8374-51F62209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B377-CB3C-4097-956D-B1E77832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3CAB-15C3-4D92-BA80-ACF27435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6184-9854-474B-8A5F-5D43A379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BCEE-913F-4E03-8806-40ABD9C3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D42CA-AADF-4B39-ADBC-5CA2541F7C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