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1156"/>
        <c:axId val="51311247"/>
      </c:barChart>
      <c:catAx>
        <c:axId val="8671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11247"/>
        <c:crosses val="autoZero"/>
        <c:auto val="1"/>
        <c:lblAlgn val="ctr"/>
        <c:lblOffset val="100"/>
        <c:noMultiLvlLbl val="0"/>
      </c:catAx>
      <c:valAx>
        <c:axId val="51311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582-9FB7-47CE-BD50-7C81E9C5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72C-C9F0-4465-BB00-3058A445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7FF-C7D6-406C-B93D-425BF11D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EED-2367-41F1-B47C-F40700CA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3A4-CB4B-4281-B088-C0525D49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6FC-71E6-4044-A09F-675A2E13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741-82B5-4DCC-BE8C-D2F60488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DC5-30BB-47E8-9FCB-0FBFD537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5B4-EAD6-46F0-93BD-60D4D90D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631-9EA1-44F1-A110-4B2D96ED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3DE-8CA0-4BFE-9D8B-98EF811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3DC-1DA7-440F-A95A-1685C021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7C17A-C9EE-4189-99E7-238B6B008F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