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200798"/>
        <c:axId val="22803579"/>
      </c:barChart>
      <c:catAx>
        <c:axId val="152007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03579"/>
        <c:crosses val="autoZero"/>
        <c:auto val="1"/>
        <c:lblAlgn val="ctr"/>
        <c:lblOffset val="100"/>
        <c:noMultiLvlLbl val="0"/>
      </c:catAx>
      <c:valAx>
        <c:axId val="228035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007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DF1C-511C-4F71-85A5-DF0B89474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C5D8-B79A-45BA-8BCE-F7AF9A8F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E490-E535-4C4C-8DF5-1BE0032C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77C8-8079-4C7A-B2ED-288FAFD68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3799-551D-4C02-8F6A-36CE2858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D523-2D2D-401C-B44A-861809C5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EF71-3867-4CD5-A7DA-28B2F465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E125-08B2-4F32-B5B5-A444898C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FBBE-6444-4862-8068-71E722F5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0102-1E2B-40C1-ADBC-DA53D8E7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62F5-9456-4520-A81C-96BE3E33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1BF7-A02C-4428-9879-9DA202A7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9FC62-B421-482C-B8DE-46CAD38C8D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