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7123"/>
        <c:axId val="13694729"/>
      </c:barChart>
      <c:catAx>
        <c:axId val="5857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94729"/>
        <c:crosses val="autoZero"/>
        <c:auto val="1"/>
        <c:lblAlgn val="ctr"/>
        <c:lblOffset val="100"/>
        <c:noMultiLvlLbl val="0"/>
      </c:catAx>
      <c:valAx>
        <c:axId val="13694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7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C52-0C7C-447E-BC60-0A33160C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684-E0D0-4801-AFC3-31C4A5F8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EE4-048C-4914-9EA9-701BFBF0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485-8AC5-4988-8F6B-B4E62F21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E3B-FAC6-4C63-9F42-F765D1F2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723-FA08-4FBD-B4E5-9CA67E16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2AA-577A-44C1-A461-F1E3DED5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F0E-5FD2-4C95-87E3-C680F694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11A-F89F-4E3A-99EF-E60478B1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D3A-50CC-462D-82F1-D0FFEFBF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BCA-3161-42D7-AD79-D13BB0CB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2AA-D7EE-4231-B2F9-3745437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EDC44-E176-48A7-BC45-8466FB7FBD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