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02434"/>
        <c:axId val="33152062"/>
      </c:barChart>
      <c:catAx>
        <c:axId val="71002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52062"/>
        <c:crosses val="autoZero"/>
        <c:auto val="1"/>
        <c:lblAlgn val="ctr"/>
        <c:lblOffset val="100"/>
        <c:noMultiLvlLbl val="0"/>
      </c:catAx>
      <c:valAx>
        <c:axId val="33152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2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EA8-6474-48B5-9472-74E16D34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048-8DA2-4FFA-A0C5-3E18DC51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A24-B7AF-4F37-9E9B-7B43F05A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468-9985-4EB0-9E54-8FD13635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B0C-787D-4F6A-A9ED-3DFA2966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A77-2811-45D4-8722-E7E24880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F87-E8B8-4966-BF32-83946C4E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9BD-1CC3-4B36-A5A1-8AF7969F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7BB-AB75-409E-8175-8F03B7C5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7C1-05C6-4D38-AC02-5F695C6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BD1-6EB2-48C6-92FA-8BBC3F7D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364-B612-4242-9EA2-8ADF062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A3A40-F384-4946-B9A2-4B2A43857F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