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42275"/>
        <c:axId val="25795592"/>
      </c:barChart>
      <c:catAx>
        <c:axId val="92942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95592"/>
        <c:crosses val="autoZero"/>
        <c:auto val="1"/>
        <c:lblAlgn val="ctr"/>
        <c:lblOffset val="100"/>
        <c:noMultiLvlLbl val="0"/>
      </c:catAx>
      <c:valAx>
        <c:axId val="25795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42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7A4-C9A2-4886-9A41-076CD30C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40F8-E1B0-4B86-A705-A8DA904F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DB94-BCAB-4E04-A4E2-5C7D4806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A43-AB0F-4E5E-AD2F-3FA81393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F909-08BF-4EF9-A05B-5DE6BF8E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1D7-EB52-4642-A60A-269288D5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32A-5915-4ACA-8A58-6795AFE8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177-B3B0-4A18-9B68-4788351C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F4D-279A-4513-9A93-E717D849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CEFF-D494-4C34-9EE2-1A2104B9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C08-2956-4CFB-810F-B50BECAC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11C-01C9-4733-8C6F-315DEBF3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D8A29-37A6-4B44-973C-87E8FC1C4D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