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07901"/>
        <c:axId val="72256201"/>
      </c:barChart>
      <c:catAx>
        <c:axId val="27407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56201"/>
        <c:crosses val="autoZero"/>
        <c:auto val="1"/>
        <c:lblAlgn val="ctr"/>
        <c:lblOffset val="100"/>
        <c:noMultiLvlLbl val="0"/>
      </c:catAx>
      <c:valAx>
        <c:axId val="72256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07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594-758B-45DB-BB22-38C92ED4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5D1-E30E-4879-AB0B-00D3BB45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315-D05A-46DC-A336-FFEC14C7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1D9-A61B-49FE-AFB1-471ED7A4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894-8BC0-4C7A-9CF6-56FB62A8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C18-DCE3-40F7-99B6-141BCD51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144-FA76-4B5B-AC34-D76AA6B5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70B-F5D4-4E0A-A5BC-6C043D20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BC6-9036-4529-B967-497D12CD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FB3-211A-4E5C-AD24-EF6C3EF3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1A2-F97C-44BB-B51F-7DF3501F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2EF-982E-401D-9271-4C302883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D3D91-7766-46CB-AD52-AD9C817C10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