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35197"/>
        <c:axId val="15278368"/>
      </c:barChart>
      <c:catAx>
        <c:axId val="30135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78368"/>
        <c:crosses val="autoZero"/>
        <c:auto val="1"/>
        <c:lblAlgn val="ctr"/>
        <c:lblOffset val="100"/>
        <c:noMultiLvlLbl val="0"/>
      </c:catAx>
      <c:valAx>
        <c:axId val="15278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35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6A0-0D32-449D-BB6C-95C3DCAF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3FA-B138-4AA7-B72B-C2A82775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B8B-83F0-4F41-A252-E7DDC1C3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E13-3DAD-490D-A30E-11F1A89E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060-4982-4914-AC94-29710738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FCA-2592-4239-AFB0-19CEECBD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FA0-285D-4266-B829-F35A6C37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0BD-3E5A-4378-882A-A376208C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65E-AB78-4369-A2EB-CCA85D93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BBF-2C85-4EB3-B61D-31CC988D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2D08-2C6B-4886-94B9-EF10EC96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50C-1A94-470C-9402-71C80C52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2D1E4-ED87-4178-BF41-549BCBC3DF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