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413429"/>
        <c:axId val="83282813"/>
      </c:barChart>
      <c:catAx>
        <c:axId val="724134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82813"/>
        <c:crosses val="autoZero"/>
        <c:auto val="1"/>
        <c:lblAlgn val="ctr"/>
        <c:lblOffset val="100"/>
        <c:noMultiLvlLbl val="0"/>
      </c:catAx>
      <c:valAx>
        <c:axId val="832828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4134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0BA3-FC6A-4A54-88B7-B8BBDCB42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6E9F-7AA8-4E64-B1B4-1ECE885B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D8FF-96CB-40EF-91CD-84706A97F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D9B4-C43B-45A6-8CEF-35370C1D7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B23E-E6C7-4CC2-8CC9-CE58380F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9F4F-43EB-4EF1-9994-BF65EAF1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AF58-3B85-4300-B0F9-EAD3B7FB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D48E-7631-4544-85A5-8A27A8B3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7DE3-EF22-4024-8A32-B200F6A6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F967-DDC8-4A64-B805-25D70E9D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A3C2-4258-4F4D-940D-D81439A8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0F9C-667C-4694-B8DF-1681BE68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5D6AA-3975-4119-AEF3-9E85662779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