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6355"/>
        <c:axId val="50938394"/>
      </c:barChart>
      <c:catAx>
        <c:axId val="71866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38394"/>
        <c:crosses val="autoZero"/>
        <c:auto val="1"/>
        <c:lblAlgn val="ctr"/>
        <c:lblOffset val="100"/>
        <c:noMultiLvlLbl val="0"/>
      </c:catAx>
      <c:valAx>
        <c:axId val="50938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6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354-C662-4630-85CF-1A9AE53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11F-15E1-4478-BC8B-9CDE36C8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159-6E40-49FB-8687-FB298F2E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583-8537-4AEA-9C24-F872EB04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20C-FF0B-4A13-9483-CEDDC309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E7E-0AAB-4E40-A5C1-80F8C248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9B9-3E72-4C0E-82EC-ECD96AA2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ECC-9C56-4EEE-B73B-F9BDDB62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E4D-58F7-477F-B575-7994083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D9E-793B-4376-90C6-B5603CC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81D-7501-4B21-B449-4942A73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2DB-C945-483B-9822-20DA4135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DFB6E-03DA-4ADA-A9C0-478EE89143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