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83494"/>
        <c:axId val="4020930"/>
      </c:barChart>
      <c:catAx>
        <c:axId val="74483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0930"/>
        <c:crosses val="autoZero"/>
        <c:auto val="1"/>
        <c:lblAlgn val="ctr"/>
        <c:lblOffset val="100"/>
        <c:noMultiLvlLbl val="0"/>
      </c:catAx>
      <c:valAx>
        <c:axId val="4020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83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CAC-2CD8-4C99-BE9E-95AEE61F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ED8-9CB8-4218-87B1-B227602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F3E-B547-4E2D-87B3-035DCA6C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DBE-7EE4-458A-9E12-05D6B58B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448-CBE8-4613-B9E5-164CDDF8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66C-E75F-46C6-A075-56610CFE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31D-10F7-4FC2-A01A-9E89093C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322-52E0-421D-A3F0-4DC37CB2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E90-7F57-44BF-9250-F73AF4E3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410-FF2E-4FCC-B275-DF3118B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851-BB26-47FE-90FC-84D51F0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29C-9C12-4AEB-A2A4-0E9B4B87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8823A-4737-4382-A38C-49E7F8D89B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