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74517"/>
        <c:axId val="75218779"/>
      </c:barChart>
      <c:catAx>
        <c:axId val="83174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18779"/>
        <c:crosses val="autoZero"/>
        <c:auto val="1"/>
        <c:lblAlgn val="ctr"/>
        <c:lblOffset val="100"/>
        <c:noMultiLvlLbl val="0"/>
      </c:catAx>
      <c:valAx>
        <c:axId val="75218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74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AA0B-4AAE-45C1-A57F-180245CB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E48-1552-4466-AACC-91E0D55B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AA3-3DD3-4C0F-BC72-F884D259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295-16B9-457D-A695-B1DE8C18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422-A632-4643-9B77-EA3F7E8C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D33-F771-49A5-8B94-BD41C839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8C0-6102-440A-B821-40D3C90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B42-E3D0-45B3-A556-1CE30DBB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A11-4841-4264-AD02-59F71A9F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603-8282-4BC1-9DB2-FA614191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497-A145-4F8A-9375-E52E3857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70E-3142-4386-98C0-608902D9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2EACE-9DE2-45BB-A41D-6A269EAD12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