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59775"/>
        <c:axId val="74919662"/>
      </c:barChart>
      <c:catAx>
        <c:axId val="23759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19662"/>
        <c:crosses val="autoZero"/>
        <c:auto val="1"/>
        <c:lblAlgn val="ctr"/>
        <c:lblOffset val="100"/>
        <c:noMultiLvlLbl val="0"/>
      </c:catAx>
      <c:valAx>
        <c:axId val="74919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9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050-3676-445C-91FA-3F0B2655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696-F69D-4F05-A58A-4012DA99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C5F-478A-4F97-B3CA-508B3529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DC1-C314-46FB-AEFC-95369E5A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062-1BC2-4440-93F4-FB542D43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C9F-6D9E-4D63-A3AA-E77A2C2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6B6-FD42-45DB-8B06-866F9664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2A6-B01B-4E2C-8839-9EF2904C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BCC-91C1-499D-9426-ECC82F78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705-C530-44C0-80FF-924EB47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425-F37B-462F-943C-E37B87E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A93-361C-4BE9-9A89-83983ED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C14BB-A992-44AC-A9B5-6DDEC6921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