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09900"/>
        <c:axId val="83955276"/>
      </c:barChart>
      <c:catAx>
        <c:axId val="28609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55276"/>
        <c:crosses val="autoZero"/>
        <c:auto val="1"/>
        <c:lblAlgn val="ctr"/>
        <c:lblOffset val="100"/>
        <c:noMultiLvlLbl val="0"/>
      </c:catAx>
      <c:valAx>
        <c:axId val="83955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09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A36-86C5-425A-BE21-AC453129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B55-9271-4841-83A5-91FF1D13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0C8-FA1E-4BA8-82A0-AF935550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E9B-3599-4AC1-BF07-3788BC55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0DB-8BDC-4EF6-A3FB-8BF3EF6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960-5E9D-47EB-B4F0-E29AA04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DDC-A9B4-4B5F-BDC7-A4E58E58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DA2-D7DD-4A64-B9C3-FD42ABBB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377-1A7E-4F86-81BB-3021D49F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178-057C-4887-BD1F-CB1D494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FCB-B92F-48F4-8960-099E08F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428-D852-45C6-9560-97838733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9104C-BE5C-4249-B85C-2AFCE9FFE9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