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10823"/>
        <c:axId val="64777314"/>
      </c:barChart>
      <c:catAx>
        <c:axId val="55110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77314"/>
        <c:crosses val="autoZero"/>
        <c:auto val="1"/>
        <c:lblAlgn val="ctr"/>
        <c:lblOffset val="100"/>
        <c:noMultiLvlLbl val="0"/>
      </c:catAx>
      <c:valAx>
        <c:axId val="64777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10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8D4-CD95-40E3-9E04-A5DD5DEA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E1D-DD22-408F-94EA-BDB643C0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028-3834-491A-88E5-3B2B81FA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586-C104-4C19-9469-C1B71024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FD2-AFA9-4B85-B1D0-4476E46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657-166F-4C41-87AA-C81702E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9F5-22F2-4081-9A72-9B29B887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584-F071-47EC-B77C-7AF3248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790-951C-4E60-A716-DEF6B132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8AB-3C08-414A-AB8F-D4690BC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00D-36A3-45CF-9C58-DF5C243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02C-E5DD-4343-ADA9-0455EA17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CEB10-D597-4602-B08F-96D46DB3D5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