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064092"/>
        <c:axId val="33774496"/>
      </c:barChart>
      <c:catAx>
        <c:axId val="400640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74496"/>
        <c:crosses val="autoZero"/>
        <c:auto val="1"/>
        <c:lblAlgn val="ctr"/>
        <c:lblOffset val="100"/>
        <c:noMultiLvlLbl val="0"/>
      </c:catAx>
      <c:valAx>
        <c:axId val="337744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640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6ADD-05B4-43E5-BAE4-2581D383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880D-9663-40FE-8BA3-F406AA4E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E3EB-8782-43FD-BE1C-43C3C72C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9279-E27B-4705-82FB-50C07F94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BF67-7C2C-4395-AC89-8E2D5C0E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8FF6-1A5F-4AF8-92AD-9104EEF0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5C21-638E-49F4-88A3-B4D32F07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A745-EFF6-44C2-9C42-646516BD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6FAD-07AC-41B3-A41F-7CC05381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E1BC-B7D5-46BA-BB48-C583909A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7AEA-4730-4650-BFEC-CA293BA3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2ED2-5E99-4A30-8BF9-B13657CD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6E2E6-F409-48BB-B978-46F9CBA052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