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32105"/>
        <c:axId val="84152660"/>
      </c:barChart>
      <c:catAx>
        <c:axId val="41532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52660"/>
        <c:crosses val="autoZero"/>
        <c:auto val="1"/>
        <c:lblAlgn val="ctr"/>
        <c:lblOffset val="100"/>
        <c:noMultiLvlLbl val="0"/>
      </c:catAx>
      <c:valAx>
        <c:axId val="84152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2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056-D4C4-4704-BE3F-600328EE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EF7-4193-4D2E-9BCC-4A97D6B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51D-90F4-40D4-877C-380294C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158-DC45-4E7C-AE43-BF415242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F9A-BD75-44AD-95A0-A4249ACB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F80-12C5-458F-89D9-B4CE563B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D81-EDCA-4D05-9F44-221217B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DA5-0666-4803-8843-F15F1024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D32-1F3F-4402-A631-E52FCB2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439-ABD4-4E6F-9D0C-0DF32A3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3F8-4730-4714-94CF-1B1DB0B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DC2-D32F-4DE2-8994-5428770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40DB6-ED93-495D-8EE4-4CCA5B2C4F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