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50884"/>
        <c:axId val="76323604"/>
      </c:barChart>
      <c:catAx>
        <c:axId val="52650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23604"/>
        <c:crosses val="autoZero"/>
        <c:auto val="1"/>
        <c:lblAlgn val="ctr"/>
        <c:lblOffset val="100"/>
        <c:noMultiLvlLbl val="0"/>
      </c:catAx>
      <c:valAx>
        <c:axId val="76323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50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0D8-91D9-4052-838F-3CCE8C94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E37-E151-494F-9E24-0EFCF44E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C81-404C-49F6-A34F-00726B1B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55D-4FD2-4AE2-B738-BD2D061D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22D-CD25-4837-96BA-9ACC790D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1C6-FD68-4BA0-A307-AC7133BD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B73-FDBB-4886-BE6B-2924EA9E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807-2826-4D93-8C33-B9154532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5D0-278C-40EF-8912-7C1C71BD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4BA-88FC-49B1-B04B-0FED3F85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924-C221-44B0-8FB4-AD8CFC49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DF2-B84A-4E62-9ECA-9B97E76D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778B9-F570-478D-8CA6-3DE09EC4F7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