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24563"/>
        <c:axId val="20503079"/>
      </c:barChart>
      <c:catAx>
        <c:axId val="37724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03079"/>
        <c:crosses val="autoZero"/>
        <c:auto val="1"/>
        <c:lblAlgn val="ctr"/>
        <c:lblOffset val="100"/>
        <c:noMultiLvlLbl val="0"/>
      </c:catAx>
      <c:valAx>
        <c:axId val="20503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24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926-DFB9-4570-83C4-0343EAB8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883-6DD7-4210-B2B0-F3E30DF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906-ACFE-4438-BDD3-58B529B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546-8834-4BB2-BA45-1643D27F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C99-45B0-49FC-81D6-2164D8DF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EC8-1752-4F07-A861-814B8B5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D53-B12A-4882-9C69-A70AAAD1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CEE-C3D9-40ED-9CE5-3FBCD2DC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71D-E36D-4086-8990-3EB0F07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FB3-B7AD-43F7-9AF3-E8D0285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E8E-D505-4BDB-BA66-5AF23E0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A48-C08B-42F4-B867-0BCAC36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37FA4-00E4-4CBC-8982-B95A58ACA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