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13704"/>
        <c:axId val="22322608"/>
      </c:barChart>
      <c:catAx>
        <c:axId val="632137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22608"/>
        <c:crosses val="autoZero"/>
        <c:auto val="1"/>
        <c:lblAlgn val="ctr"/>
        <c:lblOffset val="100"/>
        <c:noMultiLvlLbl val="0"/>
      </c:catAx>
      <c:valAx>
        <c:axId val="223226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137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DE1D-6476-4EED-9320-1D20A4AD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C526-BB02-49E7-A853-76014754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579-90C3-47FA-9E2C-43B5948B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5633-4EB5-4AEA-B053-D5F29B58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F72-2713-4470-9F94-103F11C7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C53F-67AC-43A2-B40F-BAC37616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24D4-FC29-49E9-84FE-EC651847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8937-E5B1-45B1-9425-7D8A48C9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4663-ECC9-4C76-B9D8-580513BE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3868-DFA9-47F1-819C-4C9D3920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BAAF-AB6A-4390-90CE-BA2B112A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4C9A-6BBE-4A24-93C8-DD610229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5DFB3-E104-4EE9-8689-00A1688326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