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03066"/>
        <c:axId val="51418587"/>
      </c:barChart>
      <c:catAx>
        <c:axId val="86603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18587"/>
        <c:crosses val="autoZero"/>
        <c:auto val="1"/>
        <c:lblAlgn val="ctr"/>
        <c:lblOffset val="100"/>
        <c:noMultiLvlLbl val="0"/>
      </c:catAx>
      <c:valAx>
        <c:axId val="51418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03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03A-AED8-437B-B54D-349614B2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2F4-246C-42A0-AA3C-57468AD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48A-D398-40FE-988C-45FF92B5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367-2D4C-4A4B-A8DA-37EA04AB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AE6-FBAC-4357-A354-7D4B5B9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067-90F1-4C04-90A6-BC2F48B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5F5-5793-4DE6-9F9B-B3557D8A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4D0-16BE-4435-AD8A-54F75F52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45E-B5C9-46EF-B359-B0E7DEC8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701-8CAA-4E0D-8F66-557C246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0BB-4BE2-4C70-AC81-CD67C0B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43E-BFE3-4289-BBE7-8BABFD1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D15B3-86E5-434B-ABB4-518FEEBEC2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