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425903"/>
        <c:axId val="42995245"/>
      </c:barChart>
      <c:catAx>
        <c:axId val="45425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95245"/>
        <c:crosses val="autoZero"/>
        <c:auto val="1"/>
        <c:lblAlgn val="ctr"/>
        <c:lblOffset val="100"/>
        <c:noMultiLvlLbl val="0"/>
      </c:catAx>
      <c:valAx>
        <c:axId val="429952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25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D746-B653-4970-831B-49C968467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3BEA-1466-43F3-9F59-F41F8CBB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B525-2134-4491-8B08-DED7D804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96BD-95C7-46AE-9BD3-4034FEF5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548B-B7CB-433E-8D69-88F62FCF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3217-73AB-41C5-9EF1-E940C595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135A-4533-4364-9B30-94045467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F4CC-6EC2-4090-AC0D-C59BE50F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AB5F-FAEF-4947-B090-7183D416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6E32-FD88-4577-96C1-12B315F9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45B8-BDE8-4CC5-9D97-B245D3A8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B6D5-894B-45F5-A51C-B4BF2965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A334D-93C9-4E64-A83F-2A7E4833A8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