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30648"/>
        <c:axId val="51296337"/>
      </c:barChart>
      <c:catAx>
        <c:axId val="53930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6337"/>
        <c:crosses val="autoZero"/>
        <c:auto val="1"/>
        <c:lblAlgn val="ctr"/>
        <c:lblOffset val="100"/>
        <c:noMultiLvlLbl val="0"/>
      </c:catAx>
      <c:valAx>
        <c:axId val="51296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30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C5F-0EED-4ABE-BB7A-28328197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D73-CB47-446A-ACDC-BA8D00A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158-D195-4A35-BFF5-20D74D32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2F4-BE4A-4266-A8AF-A8B86B99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554-88AE-4949-9CA7-71093DF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498-F4C9-4B7E-B4DB-98358A06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262-FF42-4016-BED5-D8590C11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6FD-96A3-4711-A500-01D236D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F76-7A08-4D88-8DEB-399A358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444-3770-455F-A388-AAFA159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BA5-D1A8-4A7A-A847-3C962CC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EF1-0986-4746-B3AE-B984428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780C-9C38-43F1-83AE-35426AC4E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