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78799"/>
        <c:axId val="25985549"/>
      </c:barChart>
      <c:catAx>
        <c:axId val="57978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85549"/>
        <c:crosses val="autoZero"/>
        <c:auto val="1"/>
        <c:lblAlgn val="ctr"/>
        <c:lblOffset val="100"/>
        <c:noMultiLvlLbl val="0"/>
      </c:catAx>
      <c:valAx>
        <c:axId val="25985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8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072-9352-4451-95BB-E4421DB9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BFC-5B94-41B5-A2F4-1CB806F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8E9-F680-4BF2-97E1-2AE8C4FB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630-6295-4B26-B571-155C5632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877-1FD4-4571-8086-34846BB7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D10-70DC-41BC-BE24-5BF09677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54A-3F0A-4A78-90E4-56A7D79A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3B8-77CE-437B-9016-C9E80C44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41-0420-4D5B-A859-E72CE49D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E3A-FA75-4617-A5F2-A3058C4D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034-FD3F-481A-8F85-8A76D6E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B73-88B8-432C-BFB1-5CF7CFC9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3F0B5-2BFA-4157-B38A-5EF2190D42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