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313275"/>
        <c:axId val="38738734"/>
      </c:barChart>
      <c:catAx>
        <c:axId val="631327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738734"/>
        <c:crosses val="autoZero"/>
        <c:auto val="1"/>
        <c:lblAlgn val="ctr"/>
        <c:lblOffset val="100"/>
        <c:noMultiLvlLbl val="0"/>
      </c:catAx>
      <c:valAx>
        <c:axId val="3873873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1327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C6D1-2A2D-405B-A785-B8BABF29D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8B09-9A38-4E88-A855-3EBBE835A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DB3D-9AEB-485B-830E-184A2A6AF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B87B-45A2-452E-8E4A-5569E042A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52C9-723A-482D-A45A-D82B7E5CD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CE6E-588F-4785-AA3D-BF146D341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8A5F-CAFE-4423-9D63-B177E6090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5131-C66D-4FD5-8E93-AC5473FF5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6C7C-B7A8-44B9-99CC-7B37416BE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73E5-DF3C-47D5-A4E6-A44F2BFDF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4469-964E-4751-A8F7-A7BC91890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445C-36E5-4C5E-9E11-980515DA3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081379-93B0-42C2-AA8B-145D2C6C8F9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