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580739"/>
        <c:axId val="89349975"/>
      </c:barChart>
      <c:catAx>
        <c:axId val="805807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349975"/>
        <c:crosses val="autoZero"/>
        <c:auto val="1"/>
        <c:lblAlgn val="ctr"/>
        <c:lblOffset val="100"/>
        <c:noMultiLvlLbl val="0"/>
      </c:catAx>
      <c:valAx>
        <c:axId val="893499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5807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924B-6916-432A-A10A-EA898A70D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2371-902C-4E23-AA02-50D8AACBD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FE75-81AF-4D29-B6AB-380247462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012B-EB43-4F4B-BF61-B20DACDB8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BD5D-EB7C-4256-82E8-408E089E7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3C39-F8DE-4A92-8F97-FD3224556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CFA4-4105-4C5F-8012-DE7A1D5B2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0164-56D5-4546-A91F-B93A4188D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3418-4492-4669-AB51-150E878F8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3050-EE4E-4CB0-8877-621C0F08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603D-853A-409B-8005-1BC0944D2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434A-A06A-4DEE-9101-AF882CFB8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F49C13-5566-4B57-A5DD-CB35440051A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