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03052"/>
        <c:axId val="34039351"/>
      </c:barChart>
      <c:catAx>
        <c:axId val="81103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9351"/>
        <c:crosses val="autoZero"/>
        <c:auto val="1"/>
        <c:lblAlgn val="ctr"/>
        <c:lblOffset val="100"/>
        <c:noMultiLvlLbl val="0"/>
      </c:catAx>
      <c:valAx>
        <c:axId val="34039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3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BEE-40BD-47EE-B025-EC2CFA1A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956-82E9-4D9A-BADD-411B82F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201-7DC2-45A7-8A70-6FC47425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301-2E8F-417D-B4F7-A02EDAC6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0E6-7097-4463-9393-8ED9D8C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CC8-F10C-444C-AC1C-69E41E1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C01-ED78-4252-B4CB-398C08AD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6ED-24B2-487F-ACA6-BDD3ECE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BF7-33DF-4C4E-9385-45CF2FC0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2EF-F226-4C17-899E-16BF846B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23B-EB3D-4323-B993-6C1D5F9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470-AA0E-4F07-82FC-85798E4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70CCE-92DD-460C-A2C4-7A8B2F40F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