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90476"/>
        <c:axId val="29183864"/>
      </c:barChart>
      <c:catAx>
        <c:axId val="69790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83864"/>
        <c:crosses val="autoZero"/>
        <c:auto val="1"/>
        <c:lblAlgn val="ctr"/>
        <c:lblOffset val="100"/>
        <c:noMultiLvlLbl val="0"/>
      </c:catAx>
      <c:valAx>
        <c:axId val="29183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90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595-9C4F-408C-A1B6-C3F4D5F8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0C9-2227-4C46-AE45-3216AD0D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0C5-67E8-4B8C-A891-3F265D2D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6752-2D91-480F-AC7C-F9AFB3F6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BDEA-CD99-4F61-8EE6-284D63A2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5D3-BE4B-4E71-AC21-C1B56421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9EF-0933-4855-9E67-C4F45789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DD3B-DE81-4FFA-8B96-D292D314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CAC-B5F7-4D83-9929-88CE7BAC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5EA-AACD-45EF-8E16-61CEC1B2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7A2-9CF9-43B1-A87B-B5E77D80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5AB-94C7-45D4-9326-655C3811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30E7D-E28F-4C3E-AD4E-88F4A6AB49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