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57363"/>
        <c:axId val="65475841"/>
      </c:barChart>
      <c:catAx>
        <c:axId val="45457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75841"/>
        <c:crosses val="autoZero"/>
        <c:auto val="1"/>
        <c:lblAlgn val="ctr"/>
        <c:lblOffset val="100"/>
        <c:noMultiLvlLbl val="0"/>
      </c:catAx>
      <c:valAx>
        <c:axId val="65475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57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E99-E7B9-407C-8043-7FC50825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A36-B12D-4C99-92C3-D3E7125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36C-78BF-44D7-81F1-C49AF2FC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DBE-8D4A-450C-BC22-20A22BFF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3DD-B48E-4738-9936-2F13F8EE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887-78B0-45B4-A679-8363E88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471-CC30-4D7D-858E-E09FDA60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788-9909-4D54-A446-2C83DE7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55A-57D5-4937-8931-3ABE1C55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401-344B-4CFF-9D58-1DD7B35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287-E4C5-4F19-A603-D8CE7AE3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B0D-DA00-4014-AAF9-0439A8B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41AC4-8B36-4F8C-9EB2-ECDEC6FA07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