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68385"/>
        <c:axId val="390484"/>
      </c:barChart>
      <c:catAx>
        <c:axId val="60683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484"/>
        <c:crosses val="autoZero"/>
        <c:auto val="1"/>
        <c:lblAlgn val="ctr"/>
        <c:lblOffset val="100"/>
        <c:noMultiLvlLbl val="0"/>
      </c:catAx>
      <c:valAx>
        <c:axId val="3904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83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3D29-38AE-4AFE-BD34-092769C20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931E-A4EF-4E6B-B711-EA611685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801E-4297-487B-95F7-D22A59D30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7B48-E72A-4E70-9D31-996974BE1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21F9-92F3-492F-9800-E8C209C7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E400-EA19-41F3-97CC-0DC6A008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ABB7-9F49-4EC0-94D8-EC9EC797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2DD2-523E-4EFD-8055-363FEE38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4AC5-4C0E-4060-AFA3-B76185F5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DEE7-2906-40E7-A154-29719989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E1A0-EF97-4C52-B625-A1DCC1D6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32BC-8BBF-401D-9FCC-EF21D052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26BBF-1E15-4704-80C1-08DBBB7BF9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