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59684"/>
        <c:axId val="40890957"/>
      </c:barChart>
      <c:catAx>
        <c:axId val="13359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90957"/>
        <c:crosses val="autoZero"/>
        <c:auto val="1"/>
        <c:lblAlgn val="ctr"/>
        <c:lblOffset val="100"/>
        <c:noMultiLvlLbl val="0"/>
      </c:catAx>
      <c:valAx>
        <c:axId val="40890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59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A92-2B00-462C-97FF-9A759C7C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60C-8C51-4A62-A3A6-8BA7FCA3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079-94D1-4AEE-A386-C7FE4DEE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793-ADA0-4924-9B2E-612F9530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6F0-3F25-4CB1-A8AC-68862F4B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0D0-5506-476D-9833-780CE787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CCB-8300-48E9-8BED-CCF98BFE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149-FAB0-4C71-A9C7-60EC4742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FAF9-D555-43C4-A3CF-5727E16A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7A7-3ABC-49BE-928B-BBE1A40D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51B-7FCF-4475-99A6-E08A75CF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3435-3933-4FA8-90C4-F42067B5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6BE77-291E-4061-BA8B-F35524DD45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