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85043"/>
        <c:axId val="42044567"/>
      </c:barChart>
      <c:catAx>
        <c:axId val="31985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44567"/>
        <c:crosses val="autoZero"/>
        <c:auto val="1"/>
        <c:lblAlgn val="ctr"/>
        <c:lblOffset val="100"/>
        <c:noMultiLvlLbl val="0"/>
      </c:catAx>
      <c:valAx>
        <c:axId val="42044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85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A5A-3FF5-4594-AE6D-FD251909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23D-24B1-4AF9-8BFF-85C4E08C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899-F76C-4B8D-8489-3D289FCB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3F2-BF27-4934-B3A8-E20036FB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759-A23D-48EB-A750-6ED8026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B46-3E93-4031-B528-D0F86BA9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049-F3C1-4C6D-8CE8-0D19610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576-0422-4D9C-981A-CBBAFAD2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02D-CA6B-4D3C-B787-434ADD85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034-6730-4949-9E36-6AB7E9A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61C-8C83-4D6C-A65F-76DA7004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413-AA02-4DCC-97AC-581D623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53762-6720-4A73-9A10-DCCC539F23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