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25079"/>
        <c:axId val="54460951"/>
      </c:barChart>
      <c:catAx>
        <c:axId val="24925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60951"/>
        <c:crosses val="autoZero"/>
        <c:auto val="1"/>
        <c:lblAlgn val="ctr"/>
        <c:lblOffset val="100"/>
        <c:noMultiLvlLbl val="0"/>
      </c:catAx>
      <c:valAx>
        <c:axId val="54460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25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6D3-1242-4931-A128-2705C3BA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D14-A7AA-43A6-9622-65FD06B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E86-FB3F-499C-B4A3-4BFE58C2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CFE-31C9-434A-BDB9-19667643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6ED-DAC8-4A1C-8D0B-D3D6FC3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D0C-8321-4D70-AEB3-25C27AF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BA9-2DF2-42FC-906F-22768D2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536-7868-4199-AE72-CD34BA0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0A6-3E09-4EFD-9A65-E70BAFF4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DFF-89C0-4372-BECB-B2B50F4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AC1-4C0A-4855-BE4A-0877CCE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465-BDA3-4D51-A401-2791D88E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B36D1-1595-4A21-BD55-10FD0F1D4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