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28173"/>
        <c:axId val="85506544"/>
      </c:barChart>
      <c:catAx>
        <c:axId val="84228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06544"/>
        <c:crosses val="autoZero"/>
        <c:auto val="1"/>
        <c:lblAlgn val="ctr"/>
        <c:lblOffset val="100"/>
        <c:noMultiLvlLbl val="0"/>
      </c:catAx>
      <c:valAx>
        <c:axId val="85506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28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6B9-D7AF-4C52-B22C-8E90A648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387-A313-4E3E-8718-E4FE53E6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CF3-3FF0-4895-9091-49D5BEF3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3F9-CF02-4F6F-94E5-7AE5C07C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0EA-B749-4DC3-89EC-795C2F5D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85B-7242-4655-8FEC-1FF07CDA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258-5C13-4015-9A7B-7E58F5E5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984-366C-4AE8-A01B-AA2D694F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852-0796-4954-AF9C-19A536D2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020-4E7B-4D0F-B611-A0E122A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D0D-5655-4D0A-9375-96F88BC9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C42-94DC-409D-91EE-338455FD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D6A38-8717-47EF-850A-392599DE5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