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505686"/>
        <c:axId val="7510921"/>
      </c:barChart>
      <c:catAx>
        <c:axId val="605056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10921"/>
        <c:crosses val="autoZero"/>
        <c:auto val="1"/>
        <c:lblAlgn val="ctr"/>
        <c:lblOffset val="100"/>
        <c:noMultiLvlLbl val="0"/>
      </c:catAx>
      <c:valAx>
        <c:axId val="75109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5056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DCF73-B1C7-4D99-B004-5B6D888BD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18E8-D98F-40E5-AF3F-DF3DAD0ED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30731-5426-484C-88BA-1BF149D24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38D7-0921-44E0-BE77-FD24D38A5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7F24-80B1-4F81-80DB-90FB9A61F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14A0-AE38-4EDE-A3B2-B1A9FD39C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4390-8A3B-4F68-9096-5CAD061CF3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6B57-2D6E-432A-A25C-24E56C3DD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A9F6-3A4A-4B28-B478-8EEAC6B92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DC02F-7124-42E5-BBAC-C5BE77EC9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66B88-A970-4805-BE01-DAD1F2F60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DBD9-5742-42D1-9DDE-EB35BA5FA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928034-8173-40C2-B8C4-F94DBA5187B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