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68690"/>
        <c:axId val="39515608"/>
      </c:barChart>
      <c:catAx>
        <c:axId val="83868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15608"/>
        <c:crosses val="autoZero"/>
        <c:auto val="1"/>
        <c:lblAlgn val="ctr"/>
        <c:lblOffset val="100"/>
        <c:noMultiLvlLbl val="0"/>
      </c:catAx>
      <c:valAx>
        <c:axId val="39515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68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1DE-52DA-47A1-B796-701ADDD3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0C6-457A-49EF-BAEC-3B386B1D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D9D-FC4E-4E0D-8901-39E376EA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C79-B1BE-48F4-88BB-7BD35580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152-D2CF-4C61-A414-D90D9548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A77-2230-449D-8F81-91178D9C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229-5716-4652-999D-25502CB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230-1764-48B4-8525-8FADA044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CFF-A155-4100-BD83-0417BF08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19A-8A9E-47F1-814F-9A17A8AA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0D4-B3A0-495D-8442-7F5F379A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13F-F11B-48C9-853D-9583CA7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1ADBE-B170-4F5D-8C3D-D20C5A18C9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