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0491"/>
        <c:axId val="69339424"/>
      </c:barChart>
      <c:catAx>
        <c:axId val="54830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39424"/>
        <c:crosses val="autoZero"/>
        <c:auto val="1"/>
        <c:lblAlgn val="ctr"/>
        <c:lblOffset val="100"/>
        <c:noMultiLvlLbl val="0"/>
      </c:catAx>
      <c:valAx>
        <c:axId val="6933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0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04E-3F88-4DC3-A233-5BC91931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358-227C-4F8A-B07D-D1838097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E06-EF0C-496E-962D-15A12959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607-1F96-46DC-8970-ADA924E1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5D7-E39B-48BD-A0CE-C43E87B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B14-DD63-4537-A695-C377633F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3FB-B7A6-4A78-B60B-74C1DA8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386-FCBA-45F7-817E-4A8A496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180-02B6-4539-9F6C-89A160B0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4CB-99C7-42B3-AA4B-4E016B5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F5F-C8AB-40C4-8C62-F5FDFBC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97-88A3-46B9-AD22-E965ABE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3E4BE-D4F4-456C-A90B-FDDECB3EB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