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40236"/>
        <c:axId val="62632102"/>
      </c:barChart>
      <c:catAx>
        <c:axId val="61940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32102"/>
        <c:crosses val="autoZero"/>
        <c:auto val="1"/>
        <c:lblAlgn val="ctr"/>
        <c:lblOffset val="100"/>
        <c:noMultiLvlLbl val="0"/>
      </c:catAx>
      <c:valAx>
        <c:axId val="62632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40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8AB-14F7-4B04-8736-5C0B1F7D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AEC-1849-4943-BB80-767DD77F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A92-7AFD-454F-9142-CAF46905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EFE-81C4-4937-B5D4-D06A07F7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B3D-CE30-452C-991A-7596D957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6D9-543C-44E0-BFD1-5CA42F16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52C-32A9-4AAD-B65D-4C19013A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EA5-6050-451B-A93C-8C39CC4E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003-82F2-44D9-8E5F-E918F7C7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E6CE-88B4-4F61-B304-AC73252C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526D-5A43-4962-B731-5B8EDDE4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EED3-4E49-4C80-B9CD-E3690A35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03337-5836-46B4-9932-E91E039C2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