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58243"/>
        <c:axId val="92858358"/>
      </c:barChart>
      <c:catAx>
        <c:axId val="18058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58358"/>
        <c:crosses val="autoZero"/>
        <c:auto val="1"/>
        <c:lblAlgn val="ctr"/>
        <c:lblOffset val="100"/>
        <c:noMultiLvlLbl val="0"/>
      </c:catAx>
      <c:valAx>
        <c:axId val="92858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58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94D-10D6-4A22-B1F9-A0A2A84F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A93-1DA9-4889-AF79-8BD420E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1FB-67E3-400C-9A1F-E01CE7E7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E7E-7426-4B89-8685-38DE13C1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5BB-71C6-49C3-9CC6-E92D4F7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EE1-0EBA-4C4B-B70A-2EBA9E9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5D9-2CCF-4D9C-AF04-77BF61E4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4EA-30F6-4ED7-9636-0E0D39C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7A3-114C-4FD5-8F54-D618E421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A2A-07CB-4C0D-BBF8-A53988C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71A-8850-443F-811E-E2BCD89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B04-3E7E-4045-9837-05BD388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6FF71-6B64-4520-BB96-D8C892AE7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